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373-60E9-4951-AD92-191EE38B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236-1A10-4DF9-9871-4F29BCB7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75E-A62A-4E3E-967F-B88047D8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98F-376C-4D68-9219-6EBBDA27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2FE0-A990-4365-93B2-19946EED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D942-AE29-421C-84A1-E7A128FB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7CD0-22C7-42A1-BB9B-1B3FB2F8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DF6C-B949-4D83-B120-FB25729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F998-2480-4B84-B8A5-9769E78D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413E-EDE8-413B-8985-62E20288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EF34-70DF-4DCF-83D7-FD51F1EF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DF2-9959-45D0-BFDC-D4C71650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DA57-3FD8-486D-BEB7-B3435F66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4B43-AA75-4AA1-B5DC-6F34155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EB94-4E42-4CE5-A0C2-9164AECF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0BDA-2CCB-4421-A7E4-8C174AB4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290-C936-4738-B7E4-97CB966C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456-F1EB-4763-BC26-3E0B094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2B8-FFB0-412A-B861-30EDEAFC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3C6-1753-4B72-8E2A-969EDC2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8DD-79BB-4CF3-B1A5-8464F7C0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A5A-1D88-4D94-8194-382EA92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C13-C8E2-47CC-A0DF-D866F9B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36B-463D-4580-B291-CE29B2C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8D0-D048-4DAF-9FB8-849B1D5A6E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824B-E7D3-45D0-A3AD-F1EAE8A62F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ideon; Abimelech; Tola; and Jair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Judges 8:4 - 9:57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; 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74-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Judg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0100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121932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05620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124080"/>
            <a:ext cx="4267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715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he Jud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21932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12408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0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3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5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6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7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8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9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50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5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52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53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18:46Z</dcterms:created>
  <dc:creator>Frank D Vines</dc:creator>
  <dc:description/>
  <dc:language>en-US</dc:language>
  <cp:lastModifiedBy>Terry Benton</cp:lastModifiedBy>
  <dcterms:modified xsi:type="dcterms:W3CDTF">2005-02-12T03:17:51Z</dcterms:modified>
  <cp:revision>4</cp:revision>
  <dc:subject/>
  <dc:title>Slide 1</dc:title>
</cp:coreProperties>
</file>